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016-9C4B-46AB-920F-62F52062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3BA-4AC1-45A5-8C6C-C839307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78F4-7E97-40EC-8D6C-08B3182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CF89C-557C-46E9-A285-F92A875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548FB-44E0-4302-AAE7-5B34DC46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CB0DF-08F2-4BCE-A75F-E2731AD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CBB3-E69B-42E2-BAEF-B09F1E8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10F78-AD41-4150-8624-2C2C337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352F-DB45-4149-8926-154DF3D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1882-9B77-414D-B070-C2A22706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CAB2-B22B-4B9E-9DB4-ED00872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59763-AA96-4A74-B7B6-9E2D5D56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486-DE83-4C0A-8E3B-309EF90A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D98E-AE80-4851-BC99-B9DFAA2E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DDDEE-185F-48B0-8FEC-608DB5D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C22A2-11D3-46FA-8088-C659A0C1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9A37A-2F03-4C61-9011-1A1DF200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75129-B7C5-4D0B-9930-3A98E88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BA713-A50B-4A10-8AE0-BAD5CFB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5D553-4CB2-464A-81C6-1FC5344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771EF-94FA-4FAE-A237-82D0EAF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63911-6919-42FD-97F6-6AA75CB9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C307-B42B-406F-9D84-B765AF68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109-0733-4DD1-858D-97EA6824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6876A-0CC2-4443-8114-2A68CA46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BACAD-9177-49B4-BC66-F783A32F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CAD00-C5F3-4AA6-9004-F4E3DFD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0EDE-6B9B-4AF0-8958-1213FA97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F43D-DBD3-40CA-B41F-C5F63123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8CF5F-35D0-46D9-A842-42CBA798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8481-CD75-4FCA-8451-02FC6066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9B1C-6D72-4CB8-8EB7-71B4B85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4E51-3799-4FFF-BA5B-D5A9E6A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4E57-A155-4392-9D14-7777178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1138-059D-4F8C-BCD6-41AAFB2D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F3223-346E-4B01-979E-72230084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1992-2BF4-4509-BDEA-5BFAC4D5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C3A98-B6CA-4899-8A98-B62653C0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52234-6273-4FD2-954C-62BD5F01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C2373-7F5C-4A50-BFAA-09FA477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47E36-2494-4888-8C3A-5E751FF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E88F1-DA07-49BA-A3DB-F149E4D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043F7-D603-4649-8B28-82F5038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384E9-C1BF-4213-BFC2-8E21D08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04CF4-BDAC-45CA-9C45-CA3540E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1559-087E-4AA2-A4B3-CFAA73F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3F147-D500-416A-ACD5-577EB61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048EE-1C91-4A49-AA48-B4297165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312EA-6B6E-4BA6-AC78-9E02C633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89C84-3371-444A-9717-5B2E92B8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8F11C-52A3-4B71-98E4-7F135376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EB8FD-ADB8-4F25-ADD4-CE8F41F6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6A0CD-DC0F-484F-9312-210B367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3D8D6-31B5-4BD0-B5D4-BB03485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552AC-25D7-40BB-984C-B480251D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D19D3-9EB9-40B5-8B0D-75B6838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A7F-972C-4B9D-B819-B3053A4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EB562-A4EC-48BE-9B63-F595824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BC86E-BC59-4E32-BC4B-2422B82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D1328-8E47-45BB-938A-5B521A6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64DEA-EDAC-4B03-B2D9-8569B55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DE795-D27A-4EF7-A318-FC569CB3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BA955-18A5-4EC8-9234-D47284EB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C7306-C60E-4766-8949-EA866FB1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857E9-A831-40C7-9C3C-01C5B6E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9FB0D-1512-4748-8E1B-9760BF6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EE220-46C7-4738-B242-B9D2D6A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F3AD-9E14-47CD-A744-E6F025D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C32EE-59B8-4FB7-A312-496AAD3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6EA8C-F14D-4559-B1CD-353A9A7B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1A3EF-EDDC-42EF-9011-F602542A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A2AC5-D2EE-414B-85DB-E5D2209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49540-91AA-418E-BD6C-9225001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4AD03-9957-44EF-A517-EB84A7D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6563C-C660-4299-BF45-3174E4B0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7F44D-5C57-42D7-A12C-67170B42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1C518-C882-427F-B925-761BBC8F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09C539-5E16-4B02-A2A1-336DF3B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A19-1937-45AC-87EB-F334483C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20A36B-04AD-41BB-9CE7-6B02638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9AB200-8F00-4784-882F-193FDEB1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A329F4-8EA0-4E10-BA04-19381AA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EE4B8D-8F11-4BD3-9841-AA48BBF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3966FB-EF53-4456-81A6-AD9377F1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61B71A-2BAC-41A5-827A-79E6D7B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8EBA27-86BB-48D0-9323-2A693F6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2EF43E-9EF2-4DF1-BC41-4FA796A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6B674B-4085-4F05-9A1D-E65166FA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61BA65-AAAC-48AF-8C2C-ABDDAC6C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DD4C-FFB9-4F85-A00E-A8A512D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8A00D3-28DA-4A82-81F6-F98FD7CA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DB6410-637F-45E5-A46A-D3A71C32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2B1C73-6A96-4392-A0C2-628C8C5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CA14CF-F018-41BD-A889-C575BEB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0BC01E-7357-43EB-8373-5A50C0B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C3CC78-190A-4210-9074-E0C8973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3D93B7-262B-497D-BD2A-71DEED40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EFADE4-0C3C-4DD7-A883-3C6107B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D5E515-9289-43E4-AB59-26F342A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63B4AE-3A8A-4154-B0FE-24927F6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E8FF-FFB0-4F3F-81DF-E19C196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234F6A-B195-402F-931F-7597958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9EE7DA-3566-4B71-B367-6B21B9D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85A55C-C8D8-4684-AB0E-622D1029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BB8713-F684-44FD-9031-8DAFCE0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54542F-1274-48F4-B465-BDBE779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B51193-0DD7-4E3C-8CD4-C9B1CAC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4F2800-5059-4F44-BC37-DCCF8C30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C692E0-6482-43EF-8007-31FED2A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7D3B99-B9D7-43C9-8B87-8596ED4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036AAD-EAD4-48B0-A6FD-1C08225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CA6-F4C5-492F-A03F-EBCEAE4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DADE-1A43-4043-97FF-59FDF80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1D146E-46E1-4F2D-9472-64F1BC2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52EBCD-7948-4AEB-AAD3-1AE810E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91CD48-2EDF-4728-BF4F-F34898EC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1F8D69-5987-4EEE-877B-9095155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75FDAF-0AB4-4759-9834-F6FCD24D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360A3-F59E-401B-91EC-0B0B3C6C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8EA56-797F-4F48-8B94-DEA64834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32B2E-1BEB-470E-9188-EF0A227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1899D-2656-439E-9EE6-BCA9685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A8D64-950E-4407-A47D-87629D5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88B5-9021-40A1-B0A2-B2E1BBF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E4A6F-D7A0-42E4-8C09-9233AAE1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37B4A-6A67-422A-91C3-2A27BB1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44B48-08F8-4693-9A46-154B209E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6E3F5-4183-486B-9019-2AFB409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69E8C-4278-48CE-B6CD-B29DBD9E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5690F-3970-4214-A057-FBC9D7FC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F54FE-A02E-4BE5-867C-444970C7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A46-AC22-4133-BAC3-DA7FE70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6A1E-4EF5-4F4F-BFD8-561A96E4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271-A398-40D9-8306-7D4AE90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EFFC-0DD6-49E0-85C6-6E715E66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CD6B-AF0B-477A-8E4F-8A0A8F20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FC54-FF70-45DB-B7B5-2A4E5E5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F1F1-BF64-4FA2-B99A-3606D4E6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CD46-E94D-4FF1-9EA5-10AE4FC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DA3-496A-4F7B-BC9F-7E35CF2D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67BF-717F-4ADF-8A2D-183880F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BB8F-BD58-40B9-94F6-A72D475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DFF7-A760-41D1-8EAD-563C7BB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1933-E406-4BCC-BDA8-32326D8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2F6D-FD8C-4E48-AC49-A4AB5CC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6809-873B-4C55-AB4A-9A543FFD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D880-B7B2-41B5-ADB2-11DF7DFF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D4C2-81C0-48FF-83D0-B115FFD1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2E34-7951-44D5-83C8-1EB67C0B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1BE8-EFF5-4FD0-AD3A-558EAC0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7AE-0564-4842-9F37-1DEFD4C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64A7-0745-430A-AE05-06557345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DDF1-61FC-45F7-ACAB-4AD237B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4676-9DE5-4262-B1AE-A734DA9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22469-C664-45E2-AE18-3BB1FA0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B2A5-8DEF-4BF6-8000-3A2AF2B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2D68-32D1-4C08-B75C-F2B31D8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57A6-742E-4003-9BD4-C5F93FEA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BF32-A03A-422A-BDDC-03BE6249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C19C-4B33-412C-96C8-C0BAD23C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23573-AD06-49FE-94A4-47EEB2F5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B1C-0EA6-4B47-B6B5-AF004279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329C-6610-43AE-8D44-BF52B45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B475-FD5F-4FF2-99B9-E768D64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1D61-6468-473B-96B7-05DCC67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7AE01-CE64-406E-B28A-8D8767D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8FC8-4BB4-4079-BF45-03D2A14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8E6F-6631-4672-A96D-8249FC3D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5460-6008-430C-8835-76C816B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1B52-C302-4AAF-AF85-4778AF9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365B-23B5-4913-BBD3-5B832FA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884E-9F64-487E-AA8E-2063BF96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85D-87E3-43A5-A249-56A80CE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DB9F-B688-4801-8A6D-6D859844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349F-7865-4BE9-935C-D8F98387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7ACF-9667-41E3-A912-042B32C9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01538-A548-48F0-9165-13899E4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D8B4D-B9F7-4B28-AF14-CE64F86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8BB1E-5AB6-4CCF-B86F-D6BA4E5D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A089-77EA-4FF3-8726-F6C2F74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7788-5A0C-4261-BBBF-B5DF230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5241-0273-4FE2-9E64-7A498BF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A86C-84C1-4EA1-BDA4-6A08296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695-2AA9-407E-A4B5-E568EA5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07BD-AF91-41C5-9F0D-4B7C608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6590-6624-432F-8D51-328EB5F4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5ED6-0153-4662-B709-8A32A3CE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43AB-6678-4E19-AFAF-B507A0DB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C7ED-CD35-4EF6-91F7-22F4AF5D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E9F4-5769-4822-B7B6-B98A371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09E76-26E3-477C-A154-3297C80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93876-7792-4AA3-AA79-952B8FE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201DA-A016-4A49-9B83-183566B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9551-C944-44CB-934C-43FA18C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914-F685-4351-B39C-6B4CDF6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DBAA-9047-4F9B-95C0-2373C71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A9F4-6F58-4A47-AB87-896A60D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8690D-F9D5-409C-8BD7-5C820D7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FD95-16CD-4641-9A01-C1950042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DC57B-692A-4F59-9FF7-4DF62A20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110FC-EDF3-461C-8471-B8A33FC0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F23D-6BEA-4BDD-BD4E-CFB488D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6FDA-A4E3-4FD1-9DFD-06C407B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D1F0-89C8-4453-A782-FA19675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D2F6-9077-4C77-B6CA-832CB07E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097-C767-4EBC-8703-000F79E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0C5F-B1CC-41AB-9E37-12D21D5B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CA320-4948-4B5B-9106-4F17D232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26C6-D227-45D4-9D7C-048B316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C776C-F7CC-43F8-A5E1-43FC001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62C9-53E2-476B-8042-A0750320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0B32-A452-42F9-A92E-80A989DF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FD5B-ED7D-40E1-97E8-AA32C9F0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DA385-8D44-4219-B634-63BEE00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80BF0-F351-4D40-A897-3207483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7E610-5D06-46F0-8399-FC64BC9C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99E-B075-4141-AF93-93D8FDE2EB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C8C-9730-4B84-8C5F-C9D3AB4D1A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240-3E9B-4902-B42C-1192EAF09C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59E-FD86-4F16-BEBB-5284F1ABB6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B156-E3D1-481D-A502-12F6409C7938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5D1-3FDA-42B0-B324-D69DAB6A2E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C81-D775-40C5-BE51-87A36379469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5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7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85D-C824-4892-92E6-C01026157A3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48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0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1E6-FCEE-4880-80F4-C7459BF989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5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2610-7D0F-43FF-99EF-E76503276C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9A76-5453-4D89-A9F3-4C2FEF6AFC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977-C4F9-42FE-8217-F1C75D0116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4D7-8A91-42F6-8378-1C09A2F626B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801A-A251-49D9-A3D1-19C42C091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C20D-6C34-41ED-B4E6-029785EAC0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040-52DC-4A99-A354-3436904A0C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140-4840-4025-AC80-AD8145F77C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F26-D4BC-4CA4-9FAE-56698AF923D4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Mi Viaje a Costa Ric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3352680" y="3886200"/>
            <a:ext cx="289584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adley Hand ITC"/>
              </a:rPr>
              <a:t>Kendall P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6" descr="377333_22"/>
          <p:cNvPicPr/>
          <p:nvPr/>
        </p:nvPicPr>
        <p:blipFill>
          <a:blip r:embed="rId2"/>
          <a:stretch/>
        </p:blipFill>
        <p:spPr>
          <a:xfrm>
            <a:off x="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377333_46"/>
          <p:cNvPicPr/>
          <p:nvPr/>
        </p:nvPicPr>
        <p:blipFill>
          <a:blip r:embed="rId3"/>
          <a:stretch/>
        </p:blipFill>
        <p:spPr>
          <a:xfrm>
            <a:off x="6705720" y="3276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9" descr="377333_41"/>
          <p:cNvPicPr/>
          <p:nvPr/>
        </p:nvPicPr>
        <p:blipFill>
          <a:blip r:embed="rId4"/>
          <a:stretch/>
        </p:blipFill>
        <p:spPr>
          <a:xfrm>
            <a:off x="0" y="16765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377333_71"/>
          <p:cNvPicPr/>
          <p:nvPr/>
        </p:nvPicPr>
        <p:blipFill>
          <a:blip r:embed="rId5"/>
          <a:stretch/>
        </p:blipFill>
        <p:spPr>
          <a:xfrm>
            <a:off x="6705720" y="5105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1" descr="377333_13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2" descr="377333_12"/>
          <p:cNvPicPr/>
          <p:nvPr/>
        </p:nvPicPr>
        <p:blipFill>
          <a:blip r:embed="rId7"/>
          <a:stretch/>
        </p:blipFill>
        <p:spPr>
          <a:xfrm>
            <a:off x="0" y="3429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3" descr="377333_51"/>
          <p:cNvPicPr/>
          <p:nvPr/>
        </p:nvPicPr>
        <p:blipFill>
          <a:blip r:embed="rId8"/>
          <a:stretch/>
        </p:blipFill>
        <p:spPr>
          <a:xfrm>
            <a:off x="6705720" y="1676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4" descr="377333_10"/>
          <p:cNvPicPr/>
          <p:nvPr/>
        </p:nvPicPr>
        <p:blipFill>
          <a:blip r:embed="rId9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5"/>
          <p:cNvSpPr/>
          <p:nvPr/>
        </p:nvSpPr>
        <p:spPr>
          <a:xfrm>
            <a:off x="243828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Mi Hot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  <a:ea typeface="Arial"/>
              </a:rPr>
              <a:t>é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514600" y="1219320"/>
            <a:ext cx="380988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¡Hola! llegué ayer en el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estin Golf Resort &amp; Spa. Estoy aqui con Heidi y Julia. El hot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él es muy boñito y muy grande.  El hotél tiene la piscina grande, y los cuartos boñitos. El hotél tiene una bueña vista. Hace buen tiempo.  El sol brilla. No hasté nublado. ¡Costa Rica es muy boñ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Kend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LU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94" name="Picture 5" descr="imagesCA9GIPW1"/>
          <p:cNvPicPr/>
          <p:nvPr/>
        </p:nvPicPr>
        <p:blipFill>
          <a:blip r:embed="rId1"/>
          <a:stretch/>
        </p:blipFill>
        <p:spPr>
          <a:xfrm>
            <a:off x="6543720" y="53352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images"/>
          <p:cNvPicPr/>
          <p:nvPr/>
        </p:nvPicPr>
        <p:blipFill>
          <a:blip r:embed="rId2"/>
          <a:stretch/>
        </p:blipFill>
        <p:spPr>
          <a:xfrm>
            <a:off x="6629400" y="3809880"/>
            <a:ext cx="2381400" cy="2743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447920" y="958680"/>
            <a:ext cx="4114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¡Hola! ¿Como estas? Yo estoy bien. Hoy es Lunes. Hace buen tiempo. Hace color. No hasté nublado.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Por la m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ñan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, yo fui  mont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a caballo en la selva y en la playa.  En la selva, yo llev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 los tenis, pero en la selva llevé las sandalias. Después, yo fui 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Koki Beach Restaurante.  ¡El comido fue delicios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Kend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328680" y="480060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021280" cy="5508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Franklin Gothic Medium"/>
              </a:rPr>
              <a:t>                         </a:t>
            </a:r>
            <a:r>
              <a:rPr b="0" lang="en-US" sz="4300" spc="-1" strike="noStrike">
                <a:solidFill>
                  <a:srgbClr val="000000"/>
                </a:solidFill>
                <a:latin typeface="Aparajita"/>
              </a:rPr>
              <a:t>MARTES</a:t>
            </a:r>
            <a:endParaRPr b="0" lang="en-US" sz="4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562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QUERIDA CAITLIN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Y ES MARTES. HACE MAL TIEMPO. ESTÁ LLOVIENDO. HAY NUBES. YO FUI A MUSEO JUAN SANTAMARÍA. FUE MUY INTERESANTE. YO FUI A MONTEVERDE CHEESE FACTORY TAMBIEN. EL QUESO FUE BUENO. YO TRAJÉ UN UNBRELLA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RAZOS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NDALL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6738840" y="4905360"/>
            <a:ext cx="2467080" cy="1952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"/>
          <p:cNvPicPr/>
          <p:nvPr/>
        </p:nvPicPr>
        <p:blipFill>
          <a:blip r:embed="rId2"/>
          <a:stretch/>
        </p:blipFill>
        <p:spPr>
          <a:xfrm>
            <a:off x="6738840" y="3057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3"/>
          <a:stretch/>
        </p:blipFill>
        <p:spPr>
          <a:xfrm>
            <a:off x="6738840" y="1447920"/>
            <a:ext cx="2386080" cy="1609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4"/>
          <a:stretch/>
        </p:blipFill>
        <p:spPr>
          <a:xfrm>
            <a:off x="6738840" y="28440"/>
            <a:ext cx="238608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"/>
          <p:cNvSpPr/>
          <p:nvPr/>
        </p:nvSpPr>
        <p:spPr>
          <a:xfrm>
            <a:off x="5181480" y="-66204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ércoles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"/>
          <p:cNvSpPr/>
          <p:nvPr/>
        </p:nvSpPr>
        <p:spPr>
          <a:xfrm>
            <a:off x="1608120" y="1413000"/>
            <a:ext cx="624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Hola! ¿Como estas? Yo estoy bien. Hoy es Miércoles. Hace buen tiempo. Hace color y el sol brilla.  Yo fui a la playa. Yo fui con Heidi y Julia.  nosotros llevamos unos traje de baños y unas gafas de sol. Yo trajé la loción bronceadora y Heidi trajó unas toalla playeras. Yo practicé el surfing. Julia esquió en el agua. Buceamos y nadamos en el agua tambien. ¡Fue muy divertido! Nosotros no practicamos la plancha de vela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2"/>
          <a:stretch/>
        </p:blipFill>
        <p:spPr>
          <a:xfrm>
            <a:off x="3176640" y="4511520"/>
            <a:ext cx="2979720" cy="23464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3"/>
          <a:stretch/>
        </p:blipFill>
        <p:spPr>
          <a:xfrm>
            <a:off x="0" y="4511520"/>
            <a:ext cx="3214800" cy="2346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4"/>
          <a:stretch/>
        </p:blipFill>
        <p:spPr>
          <a:xfrm>
            <a:off x="6156360" y="4541760"/>
            <a:ext cx="3006720" cy="2316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"/>
          <p:cNvPicPr/>
          <p:nvPr/>
        </p:nvPicPr>
        <p:blipFill>
          <a:blip r:embed="rId5"/>
          <a:stretch/>
        </p:blipFill>
        <p:spPr>
          <a:xfrm>
            <a:off x="304920" y="136440"/>
            <a:ext cx="192384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1905120" y="247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Jue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2936880" y="182880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y es Jueves. El sol brilla. A veces hat nubes.Yo jugué el tenis con Heidi. Nosotros trajamos dos raquetas y tres pelotas. Yo jugué el gulfo tambien. Yo jugué con julia. Después, nosotros fuimos a Colbert Restaurante. La comida fue intaliano. ¡Es fue Delicio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7294680" y="0"/>
            <a:ext cx="1849320" cy="1676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294680" y="1666800"/>
            <a:ext cx="1877760" cy="1679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"/>
          <p:cNvPicPr/>
          <p:nvPr/>
        </p:nvPicPr>
        <p:blipFill>
          <a:blip r:embed="rId4"/>
          <a:stretch/>
        </p:blipFill>
        <p:spPr>
          <a:xfrm>
            <a:off x="7294680" y="5194440"/>
            <a:ext cx="1877760" cy="16635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5"/>
          <a:stretch/>
        </p:blipFill>
        <p:spPr>
          <a:xfrm>
            <a:off x="7294680" y="3346560"/>
            <a:ext cx="1887480" cy="1847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6"/>
          <a:stretch/>
        </p:blipFill>
        <p:spPr>
          <a:xfrm>
            <a:off x="9360" y="4572000"/>
            <a:ext cx="2498760" cy="2286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7"/>
          <a:stretch/>
        </p:blipFill>
        <p:spPr>
          <a:xfrm>
            <a:off x="9360" y="2209680"/>
            <a:ext cx="2498760" cy="2362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8"/>
          <a:stretch/>
        </p:blipFill>
        <p:spPr>
          <a:xfrm>
            <a:off x="9360" y="0"/>
            <a:ext cx="2498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1"/>
          <p:cNvSpPr/>
          <p:nvPr/>
        </p:nvSpPr>
        <p:spPr>
          <a:xfrm>
            <a:off x="1019160" y="457200"/>
            <a:ext cx="6600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¡Hola! Hace color. El sol brilla. Hoy es Viernes. Nosotros nadamos en la piscina de hotél. No fuimos a la playa.  Julia, heidi, y yo fuimos perezamos. Después, nosotros hacamos las maletas. Fuimos triste.  La viaje fue divertido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end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5812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16:01Z</dcterms:created>
  <dc:creator>palinken</dc:creator>
  <dc:description/>
  <dc:language>en-US</dc:language>
  <cp:lastModifiedBy>palinken</cp:lastModifiedBy>
  <dcterms:modified xsi:type="dcterms:W3CDTF">2012-11-30T16:40:32Z</dcterms:modified>
  <cp:revision>25</cp:revision>
  <dc:subject/>
  <dc:title>Mi Viaje a Costa Rica</dc:title>
</cp:coreProperties>
</file>